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E2E-3D21-4DBD-9FD0-8FD9550B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DF9-12DD-483C-8240-3154B073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1E21E-B142-44B7-86F3-0A5A7796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314D7-B17A-4888-BF40-44C4947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C49EC-3FC4-4FE7-94C1-A001E415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0FE42-8F48-4524-84CF-335D72C4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B2476-C369-41DC-924B-551B3F8D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C41CB-BAC7-4D20-BD68-4BDF1828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E3B8E-0CFE-4AB5-AD52-0991A946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FDF72-60F4-4C8E-B49F-49B17FF4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DD891-FDB4-4E17-8493-5D90061F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4D9F2-FCD7-47E6-AECF-4B4309DE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F21-7D24-425F-9261-DD3DAA4C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DABE4-E324-4F07-85E9-3ED43E46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DC824-B819-4501-A4DB-2F17877F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2B5F5-E032-455A-82AA-7F0AB525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AA3AE-0F0E-44BE-A7CA-1E869D71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0CA73-331E-435F-BCD1-211BEDD0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A39E7-A2A0-4715-9637-22F53572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6F053F-06DE-45AB-BE43-0629E481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D933D-A061-44CB-8953-7852F2C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6409DB-CA78-4871-8E35-2D8A5C1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0F203-DAEE-42F8-8DE5-ABC27807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20D-5A37-47F6-9F27-273EFD8E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B6B44-DC8D-40B2-931D-8E7EF06E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E19DE2-EC00-469A-B147-DF80DD6D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28E608-A82E-4D42-BF98-03720924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C40D3B-DBD8-46DA-B2A5-FCA2E768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CC5CF1-2719-4556-B31F-9E925074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91B727-DE02-42BB-B758-26FF0CE4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831FB3-57BB-4BC7-B79F-E60FE2FB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63F979-4E48-49BF-84FE-20BD073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19F19F-7DA2-4106-89D5-71D06AF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417843-C7C7-4D44-AE12-DD862B1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46A5F2-0E8F-4602-9544-3267FEAC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611AAA-CE13-461B-811E-A0811B28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7F5F77-53FF-403A-BA3B-C790893B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E4082-2A0C-4518-9BF9-80A7FEB1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35080-E962-4EFF-A240-31CA90DB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C7CBB-2CD3-42E7-9000-38FDFAE0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6D909-3F8A-4F18-ACB3-23C6AF62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0307C-3742-4985-A0D5-C3DCCE33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741FE-497D-4D52-A6D7-34013001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18514-8EE8-4522-A8AB-A3D3545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9470D-948B-4B8F-98CE-D0F67E0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43D0E-3F5D-4757-AA8C-C78A0A6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E9D6E-2888-4176-8BD5-4DD434CA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CD05D-0CF4-4EB2-9BE1-A078AB12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786BA-4C04-4AB3-9A9A-04C2114D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28EF1C-6609-46D7-B307-64FCB348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3293EB-181A-45E4-B39D-476A3818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A03C3-AA50-420D-8038-E6F2A2D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D32B3A-F85A-4A57-BE03-CE692451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F9E3CB-EBC7-4017-B6FD-2C385C7D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EBEAB7-68F0-43AB-BA60-5C52BFC8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0D3319-7039-4472-8733-80C526AE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9ECFAE-8FD7-4425-AEDC-2E6AFCE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4776A8-0822-4061-8CE4-95816A28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D561AF-7181-4861-824B-306F501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5EC365-0240-49B8-9686-DB929D5F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0B3BEE-8478-489C-91B0-4DC8DB93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95F63-9927-402A-991C-4FB846A4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6B093-83C2-4965-9A3F-80BDB183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DE759-53CF-4850-A8CC-4AF730A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12BC8-2023-4F18-A65A-491E1F27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47320-898B-47FB-88C7-4B24882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A4E50-AE59-4B92-B671-721D6C11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129DA-9A01-46BD-97C7-46435F8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30BB7-4204-4A18-A26E-4DEA6108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E8BB3-A909-4664-B200-EC57F75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56EC7-326E-4FC0-8508-AB03465E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85A4A-9277-4143-BA41-CC5C9B87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B72B3-1CB3-475F-BD0A-6FFA91EC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D790F-6989-4B72-89E8-1B69CEB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3B679-25A0-44C4-933C-2FD94C30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64054D-7736-472F-9E18-FA80195D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522A3-F4FA-4217-BC18-75A28D8E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5EF11-0D17-4142-A81C-363E9F02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C3C8B-C4A5-40BB-85B7-3B177ADD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D7C9A-1DB0-4D40-96E2-7C4DECDC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C390A-0C33-42EB-933F-9F4FD06A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D73F4-D2BD-4AF7-A51C-A0FFA7B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1CB77F-80AA-43C4-AFBB-C8905AC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6F36C-E154-4DDC-AEFC-58B88E48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42AB9-4D5E-469F-B4D0-4218BA59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9F632-3167-48E2-8177-31CF5E04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289CC-BA25-473F-B677-1E2E1948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D931E-B2F6-4382-B77D-D47A4809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F4719-B367-4CEA-8175-F71547B7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F6425-039B-4CDD-859D-6145751F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5CBA4-959C-458C-8977-52520E0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D575B-3772-4228-A752-9926CA9B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252-AD06-4B4E-84CD-5C09740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43A73-A9E9-43EB-9DCD-F8B2F4A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8F221-248E-4202-BCC5-F560B769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3F0B9-3C4D-4D87-9F9C-F1C7BA0E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B64C6-225A-4F7F-A47D-B436BA1A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08610-D4F2-4FB5-882B-3D953899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7D2552-5AB7-4E35-A1F5-1E14CB6B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EACC4-4517-4718-8062-F896E08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C87FC-EC89-4E97-865D-A996BE5C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58A8B-4C9A-4E9B-AA37-C665A923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6D551-F811-4E76-ABD2-44ACE4C9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60530-A7EC-4A33-B2CA-2DDD4A54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87E75-9824-41F4-A234-9412653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FC40E-77A7-4934-8251-522B45A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E844C-4C72-4108-82CB-E89E859D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D0359-1EDD-4EAD-8E02-D7F7204E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51847-E8FB-422C-BC35-A4B04883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11E05-9093-4A8C-873F-4210D667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189B3-7848-4D73-9268-E216D417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C289E-8964-4BE8-80D0-DA94510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36F7B-BE19-41FA-9F12-7479E034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8514D-9D6A-4007-A3D6-1B3325E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6FFA5-C42A-46B3-8598-380DAC6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AB61A-949F-4311-A7A5-D054C6B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E6273-8F46-47FA-9244-BFF108A4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512512-95C6-4D11-AB31-F7B09A3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F1617-84D0-4768-B1F3-24F77F8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C589B6-267D-4050-B7AB-64E45C9C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B2CF6C-B2F2-44E1-9A73-79C132B9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CB074-F662-4576-9F6C-92A9A0CA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923DD-9FCD-4249-99D3-444D9DFA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F6F6BD-DC1B-4F3A-9C1A-B84F3B9F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25697-2C41-4300-A0DA-65EF9DE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C3DFF-C446-4497-B0E1-C305C80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56206-B1C8-444E-90FE-4CCB20D9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32DB4-9204-4DAF-A133-31201F5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106BAE-A964-4A61-86CC-B13164E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4F24E-4183-49B4-B091-3BF44FAF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BAE54-ED81-400A-8644-C87128AC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7E0E49-B71C-4EB0-8045-DCC8EE89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48C74-527D-4C55-8864-88503B01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98FB4-3194-40B3-938E-5248F280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00FB05-698E-4029-AA8F-B65A715B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C29E7-77C1-4A5D-950E-5CA18484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85F27-2423-4CF5-85DD-B613B27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2A99A-F521-4BF1-B4FD-7502CE60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B8251-B5DA-49B5-9D25-44D7A18A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58A0D-5D2B-492C-9058-E5A0CC21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F64B52-E6F6-4631-AE0E-580AFC5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13237A-DAC3-4498-B8CA-FCAE0DA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EFF51-C81E-4112-8C1C-7BC4EB7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14CC5-708D-4CCC-9E80-4758034B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05FA6-CF37-48A9-8812-ABF26D69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485086-63B6-464B-903F-0B579CF2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25F9C-53A6-4E5A-A31A-F683B37D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65C5A-98F9-499E-B02B-674FBA9E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3E858-F19F-4425-8E9F-929E7406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803DB-460A-4C4E-8487-BEEDC7D5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3F534-14DD-4F21-9C6D-7608316D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AA9-341A-439F-A557-ADD5D257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1DE7B-B523-4D72-BA22-24BCCEDA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E57E1-3B74-4B04-AB5B-689FF12F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2D20D-259A-4D19-88FD-B14F880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2EBDC-A1B9-43E4-8A37-A0109E1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C07BE-9048-422D-9405-3E2496ED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EC27E-7882-4CCC-BDF4-378FB1EA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BB8D4-8DCD-446C-8DE4-AC01525F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594FE-FD4D-46D0-8CCC-288D0F27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2065B6-AC97-4263-9D2B-A2A23F10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4E84A-BD78-4482-A841-AF05460C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4F9-EEDE-462A-A905-4DB4E855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96CCD-D6D2-451F-88F7-8C6BFD88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37929-4D6F-485A-BA32-B8AD2E5B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D94B6-4D48-4672-8EFF-DDFC043A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EA016-2DC5-482D-AE8F-35863EB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F2102-85A9-4646-87DE-730514C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D868C-7EB9-4253-BD8E-FDF4728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B38BE-EC49-4C64-B139-1111AE6D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EA2B8-DDE4-4B55-8725-F4723224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ADA28-EE7F-4420-AC21-4D604E6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2BA-349F-41DE-9F7D-904C9D27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F91-344D-4791-B4CD-64F2C4CD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6D7DA-0B0D-4525-962C-71DDE47C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330538-665F-4ACB-B2C1-43ABF292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467134-DE5F-41D3-A297-1F9478E9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15DEE-0188-48CB-A39A-8DA2B2D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2877E2-B59D-44AD-B2B5-852933F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68314B-44E1-49F6-A584-F3DE5C93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2086A3-E2B5-4BBE-BF52-79A8ED72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76DF17-265F-4D08-B928-BD90184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200E9D-C13D-4260-9D92-4E8635E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077-575E-43E3-AADB-FC016C3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B09B6B-7982-4E98-80F2-1E86F9FC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BCE331-5325-4954-BF3E-9559291D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EF233-A775-48C6-896C-15753A1C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DC883D-DC5C-478E-97FA-26ACF97C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1C0C47-1B7B-40D5-A0D8-1FC0A695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536A13-4DAF-492B-898C-AF262269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DC7505-C4C7-4DB3-86D6-A7A15814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221999-33FB-4CEA-AB8B-A6073E75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053B0E-9B43-4C5B-A953-ADBDB29F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3CD91E-929D-477B-A1B6-057DB672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684-1BB6-4032-BFF3-7C3F80B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DB34B7-1EA3-4DCC-B1EB-098C6AF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260DE-125E-4FE6-85EE-229AF6D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3D64F8-1F49-440C-A441-516A6338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8F6D3F-71E5-42AF-A94B-FDBF4413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D66D90-249C-486E-9B61-A2D8AA3D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5E187A-D7D1-46BD-A90D-0580EC02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E8B1B-0038-409C-BDDD-2024E70E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32E78-46D2-4DB5-8EE6-D2771FA5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1AAFBF-1597-4C8A-BFDB-14537CC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ADBA8-FE54-4398-88C9-833949E0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761-484E-4C17-9780-0EADCB0F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FE0C99-4D4A-4D73-92C0-2C34BF51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B74F5D-F3E8-4E6E-BF86-EA9EA42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C7857-76E4-400A-A95B-1507366B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E351A0-28A8-4A30-BFB5-CD696F07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E16F2-8722-4E2A-99C6-3DA78382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96DD55-A238-4004-9D1C-2EB72A10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EC1CB1-9F83-480B-898F-07FFA1A6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529CF3-0552-473D-AE41-B76EFA22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820D2-7060-460B-A31B-D29B4B0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05C00-26C4-417C-86A1-23F6A000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52FB9-E604-4816-944C-D6EDE816933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98BDE-B230-4C03-9101-FA79723C0FC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4D4E5-BE17-4449-A3E2-5841C9B5A78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70937-3263-47F6-BAB2-E0A87DE8BED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01AEC-295F-4441-BA54-9F1FE24CFAF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2A029-132B-4A50-B058-C686683A205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DAADD-AD12-413C-BEBB-87800CF8FC6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83251-562A-4CE8-9D55-95DA4307502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3E183-8301-4EA5-AA22-106133CED29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A009F-81A4-42E1-A967-84D7037D403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01D2F-705A-4C81-8342-428330E8792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EF129-D5AD-4E11-B8FF-6FB0DAE5257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08850-C155-4469-9D7E-4B36825D219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364DD-0840-4E67-A7EE-F0A8A9B778C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03B26-CC58-4FFA-A1D0-0F456B3B063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1223F-2DD2-443E-9148-A23C9C2CF1DD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CBAED-8D8B-400C-B576-0615D0AFC93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347C2-A18C-4C6F-AC60-2521667D54BC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FA7DE-9208-434C-BCAC-391C6F73603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098E6-108B-4037-9A5B-56722730A9F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FBFB5-AEC4-48A8-9098-AAF892AA3FD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82FCC-1A80-4366-8DC2-9D5477B4052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39D9B-8A61-4E68-A4C5-EDA38E80246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7202A-BD08-48AF-A5E7-1D0BB393706E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657B0-7E62-48D3-ADA1-8BAB003F106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86CED-6507-434B-8BFB-2A02D71D7E1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40746-F53F-459C-921E-089D02074250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36CB1-5306-458A-89E1-D13A04BCF0E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A407F-965B-4EE1-B49D-FF2B7740972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68DD2-ECDA-4C45-A76E-B1B6ED1F11D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EB1AA-9E21-4C9A-94BB-2CA799EFAAF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70DA6-D8A2-49AD-951F-ED66B0EE592E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9F4E2-C4F4-40CC-91B3-FD8ECE0941F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0CC35-6BFA-4A4B-8710-F02E92A25BD6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1A8EE-B613-4E05-A0AC-62F28836F26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D64A4-1CC9-4704-A0E0-3499FB64BE8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B312E-8E79-4472-A399-D9C2903EAA8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40B4D-7036-4000-8632-375D3B5CC52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E9E37-51AA-44EB-87ED-E1572E36F79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ers/cciu/Desktop/Gifted%20Education/Gifted%20White%20Paper%20April%202010%20final.doc" TargetMode="External"/><Relationship Id="rId2" Type="http://schemas.openxmlformats.org/officeDocument/2006/relationships/hyperlink" Target="file:///Users/cciu/Desktop/PAGE%20Conference%202010/AssessChart.doc" TargetMode="External"/><Relationship Id="rId3" Type="http://schemas.openxmlformats.org/officeDocument/2006/relationships/hyperlink" Target="file:///Users/cciu/Desktop/Gifted%20Education/Meeting%20Notes/April%202010%20state%20mtg/Goal%20statements%20developed%20at%20last%20mtg.tiff" TargetMode="External"/><Relationship Id="rId4" Type="http://schemas.openxmlformats.org/officeDocument/2006/relationships/hyperlink" Target="file:///Users/cciu/Desktop/Gifted%20Education/Meeting%20Notes/April%202010%20state%20mtg/IU%20%231%20e-mentoring%20goals.tiff" TargetMode="External"/><Relationship Id="rId5" Type="http://schemas.openxmlformats.org/officeDocument/2006/relationships/hyperlink" Target="file:///Users/cciu/Desktop/Gifted%20Education/Meeting%20Notes/April%202010%20state%20mtg/IU%20%231%20e-mentoring%20goals.tiff" TargetMode="External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Network Meeting- 5/17/10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98600" y="1315800"/>
            <a:ext cx="3657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Rockwell"/>
              </a:rPr>
              <a:t>Introduction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PDE White Paper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2"/>
              </a:rPr>
              <a:t>PLEP- Summary of possible assessment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3"/>
              </a:rPr>
              <a:t>Bad Goal Statement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4"/>
              </a:rPr>
              <a:t>IU#1 </a:t>
            </a:r>
            <a:r>
              <a:rPr b="0" lang="en-US" sz="3000" spc="-1" strike="noStrike" u="sng">
                <a:solidFill>
                  <a:srgbClr val="bc5fbc"/>
                </a:solidFill>
                <a:uFillTx/>
                <a:latin typeface="Rockwell"/>
                <a:hlinkClick r:id="rId5"/>
              </a:rPr>
              <a:t>e</a:t>
            </a:r>
            <a:r>
              <a:rPr b="0" lang="en-US" sz="3000" spc="-1" strike="noStrike">
                <a:solidFill>
                  <a:srgbClr val="595959"/>
                </a:solidFill>
                <a:latin typeface="Rockwell"/>
              </a:rPr>
              <a:t>-mentoring goals</a:t>
            </a:r>
            <a:endParaRPr b="0" lang="en-US" sz="3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397400" y="1599840"/>
            <a:ext cx="36576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Demos of tools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Google Wonderwheel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www.lexile.com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Due Process presentation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3:04:31Z</dcterms:created>
  <dc:creator>CCIU</dc:creator>
  <dc:description/>
  <dc:language>en-US</dc:language>
  <cp:lastModifiedBy>CCIU</cp:lastModifiedBy>
  <dcterms:modified xsi:type="dcterms:W3CDTF">2010-05-19T12:37:30Z</dcterms:modified>
  <cp:revision>2</cp:revision>
  <dc:subject/>
  <dc:title>Gifted Network Meeting- 5/17/10</dc:title>
</cp:coreProperties>
</file>